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A47-8D09-4A92-9627-597705D1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99840" y="412776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59C-2865-435E-91B6-39E94413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040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677B-E940-459E-A6AE-D94F7BB8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2156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364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9984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2156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4364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C7D-3A4C-4069-9A2C-4E8C114E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6E07-9D38-4C96-A3BF-97038B31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DDBE-674D-4FEE-AAA4-47D1378B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9EF9-409D-472D-A6F1-E11044E4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81C2-B8A7-45DF-9F54-0536EB01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E7AC-7A95-4D47-9B34-4647172C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-53388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825F-D882-4375-B159-256FCAB9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DB0E-CFEC-429A-86D3-162E2C7F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E70-697D-4765-944A-C959CF97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7040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ED22-8D89-4ECE-A6F3-00A59ED0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9DB9-F1F5-4416-8782-F44F24A2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99840" y="412776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9E7D-7933-482C-8BA8-A086732F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7040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6C1C-E491-4C13-A3A9-CCF94570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2156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43640" y="114264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9984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2156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43640" y="4127760"/>
            <a:ext cx="230616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5073-FD30-49C6-A610-03BFF938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89FE-DE41-48DD-975D-04C98250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953-87AE-49E4-8901-884759F0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6F46-C781-42AF-B357-50325AAF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-53388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C4FA-35E4-4194-97A2-A214611B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7A83-9EC3-44C8-9886-17C92351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0400" y="412776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F90-F5C5-4529-9731-E1F8E811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0400" y="1142640"/>
            <a:ext cx="349524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99840" y="4127760"/>
            <a:ext cx="7162920" cy="27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AEF-5750-4851-918B-0AC45901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BC21-E783-48E9-BCA7-2E3046D48D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7848720" cy="6853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514600" y="137160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2083" y="-29631"/>
                </a:moveTo>
                <a:arcTo wR="32000" hR="32000" stAng="-4068917" swAng="8137834"/>
                <a:moveTo>
                  <a:pt x="12083" y="29631"/>
                </a:moveTo>
                <a:arcTo wR="32000" hR="32000" stAng="4068917" swAng="41"/>
                <a:lnTo>
                  <a:pt x="12083" y="29632"/>
                </a:lnTo>
                <a:lnTo>
                  <a:pt x="12083" y="-29632"/>
                </a:lnTo>
                <a:lnTo>
                  <a:pt x="12083" y="-29631"/>
                </a:lnTo>
                <a:arcTo wR="32000" hR="32000" stAng="-4068958" swAng="41"/>
                <a:close/>
              </a:path>
            </a:pathLst>
          </a:custGeom>
          <a:noFill/>
          <a:ln w="6480">
            <a:solidFill>
              <a:srgbClr val="e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3222720" y="304920"/>
            <a:ext cx="403884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994" y="-25753"/>
                </a:moveTo>
                <a:arcTo wR="32000" hR="32000" stAng="-3215387" swAng="6430773"/>
                <a:moveTo>
                  <a:pt x="18994" y="25753"/>
                </a:moveTo>
                <a:arcTo wR="32000" hR="32000" stAng="3215387" swAng="64"/>
                <a:lnTo>
                  <a:pt x="18994" y="25754"/>
                </a:lnTo>
                <a:lnTo>
                  <a:pt x="18994" y="-25754"/>
                </a:lnTo>
                <a:lnTo>
                  <a:pt x="18994" y="-25754"/>
                </a:lnTo>
                <a:arcTo wR="32000" hR="32000" stAng="-3215450" swAng="64"/>
                <a:close/>
              </a:path>
            </a:pathLst>
          </a:custGeom>
          <a:noFill/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635B-AFF9-4BFE-8FC5-DEBF9FE987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0"/>
            <a:ext cx="0" cy="6858000"/>
          </a:xfrm>
          <a:prstGeom prst="line">
            <a:avLst/>
          </a:prstGeom>
          <a:ln w="9360">
            <a:solidFill>
              <a:srgbClr val="e4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marL="3934440" indent="-393444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260280" indent="3674160"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602640" indent="33318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3934440" indent="-31662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3934440" indent="-291024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3934440" indent="-291024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3934440" indent="-291024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image" Target="../media/image8.wmf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12560"/>
            <a:ext cx="74674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Verdana"/>
              </a:rPr>
              <a:t>Empire Hotels</a:t>
            </a:r>
            <a:br>
              <a:rPr sz="6100"/>
            </a:br>
            <a:br>
              <a:rPr sz="3100"/>
            </a:b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Verdana"/>
              </a:rPr>
              <a:t>PROJECT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Verdana"/>
              </a:rPr>
              <a:t>S.M.A.R.T.</a:t>
            </a:r>
            <a:r>
              <a:rPr b="1" lang="en-US" sz="31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1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1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1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 Meetings Automated Reservation T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ssumption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% of 2001 bookings by seg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jected growth rates with &amp; without proj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te Structure by brand &amp; loc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rgins by brand &amp; loc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ject Cost ($10MM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scount Rate (12.5%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Model Formulation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600200" y="1143000"/>
            <a:ext cx="68580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9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evaluate the project, utilize a 2-part model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5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Simulat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What is the expected PV of additional customer revenues generated from accepting the project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524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Optimizat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What is the optimal licensing fee that Empire should charge its hotels in order to recoup the project costs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599840" y="2743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9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ariabl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 – number of bookings in 200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– allocation of bookings by seg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n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growth rate per segment without projec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growth rate per segment with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 – fee per n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 – number of nights per boo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 – margin percent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1371600"/>
            <a:ext cx="6477120" cy="128520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a Crystal Ball simulation to determine the present value of additional revenues that we expect the project to gener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36840" y="11685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9960" indent="-39996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000 tria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ndom Variabl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ected growth rates by segment with projec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verage # nights per sta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bability of project acceptance by proper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cremental revenue per property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ected acceptance rate by ownership typ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ion – Model Snapsh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mulate acceptance of project at each hot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e aggregate PV of revenue based on accept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7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verage percentage increase in operating margin generated from project by 2007: 3.18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596960" y="3278160"/>
          <a:ext cx="7255080" cy="2551320"/>
        </p:xfrm>
        <a:graphic>
          <a:graphicData uri="http://schemas.openxmlformats.org/drawingml/2006/table">
            <a:tbl>
              <a:tblPr/>
              <a:tblGrid>
                <a:gridCol w="1417680"/>
                <a:gridCol w="1417680"/>
                <a:gridCol w="1533600"/>
                <a:gridCol w="1314360"/>
                <a:gridCol w="1571760"/>
              </a:tblGrid>
              <a:tr h="722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c (Dec) from Av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0.0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+ Inc (De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"Actual“ Deci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otel accepts project? (1=Y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el 1 (Franchis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5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el 2 (Manag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el 3 (Manag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3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3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tel 4 (Own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.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Simulation - Projected Result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99840" y="110448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026120" indent="0"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pected Present Value of Reven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606680" y="1679400"/>
          <a:ext cx="7149960" cy="4902480"/>
        </p:xfrm>
        <a:graphic>
          <a:graphicData uri="http://schemas.openxmlformats.org/drawingml/2006/table">
            <a:tbl>
              <a:tblPr/>
              <a:tblGrid>
                <a:gridCol w="1415880"/>
                <a:gridCol w="1508040"/>
                <a:gridCol w="1408320"/>
                <a:gridCol w="1409760"/>
                <a:gridCol w="1407960"/>
              </a:tblGrid>
              <a:tr h="506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atis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V of Reven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wn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nag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ranchis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ri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5,085,977.08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.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d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3,669,670.3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andard Dev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6,992,417.8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.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.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Vari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.89E+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.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kewn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Kurto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.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+Infin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.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eff. of Vari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ange Min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,949,563.9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4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ange Maxim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55,826,152.6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ange Wid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53,876,588.6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2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an Std. Err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221,119.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3060720" y="2514600"/>
            <a:ext cx="1447920" cy="343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ptimization Model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599840" y="2629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ssumption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e differential is 20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venue Sharing is 50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straint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e per property type must be at least 50% of average incremental revenue genera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e per property type can not be greater than average incremental revenue genera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ing the Managed property fee as the baselin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wned Fee is 120% of Managed 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26920" indent="6199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ranchise Fee is 80% of Managed F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tal fee recovery = Total project co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1371600"/>
            <a:ext cx="6477120" cy="128520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Solver to determine the optimal licensing fee given the average incremental revenue for each type of property obtained from the sim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Optimization Model Result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600200" y="11426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114480" indent="3427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total sum of the three licensing fees (O,M,F) 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14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$32,380 per year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14480" indent="34272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following fee structure will recoup the projec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14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st of $10 million in 5 year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114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39880" y="2705040"/>
          <a:ext cx="6870600" cy="2832120"/>
        </p:xfrm>
        <a:graphic>
          <a:graphicData uri="http://schemas.openxmlformats.org/drawingml/2006/table">
            <a:tbl>
              <a:tblPr/>
              <a:tblGrid>
                <a:gridCol w="1076400"/>
                <a:gridCol w="1012680"/>
                <a:gridCol w="1995480"/>
                <a:gridCol w="1249200"/>
                <a:gridCol w="1536840"/>
              </a:tblGrid>
              <a:tr h="88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# of Expected Proper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verage Excess Reve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icensing Fee per Proper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otal F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w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5,3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15,0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 7,676,7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anag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8,7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  9,3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 1,686,6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ranchi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15,9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0000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  7,9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>
                      <a:noFill/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   636,6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2240">
                      <a:solidFill>
                        <a:srgbClr val="ff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 32,3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$     10,000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3022560" y="5054760"/>
            <a:ext cx="1625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7216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73320" y="5295960"/>
            <a:ext cx="1613160" cy="673200"/>
          </a:xfrm>
          <a:prstGeom prst="wedgeRectCallout">
            <a:avLst>
              <a:gd name="adj1" fmla="val 118995"/>
              <a:gd name="adj2" fmla="val 752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inimize Total Fee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520" y="-4957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Recommendation &amp; Conclusion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599840" y="218448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ll generate $5 million net present valu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mproved operational efficienc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creased customer satisfaction and loyalt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wned Hotels: $15,05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naged Hotels: $9,37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ranchised Hotels: $7,95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TAL: $32,38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371600"/>
            <a:ext cx="7010280" cy="90180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pt Project SM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89120" y="3860640"/>
            <a:ext cx="7010280" cy="90180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mal Fee Structure by Property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09760" y="15109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ppendice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05120" y="1371240"/>
            <a:ext cx="7238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nagerial Challen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ustomer Needs Assess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posed Solution Evalu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ey Consider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sump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del Formul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jected Resul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520" y="-6829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endix - Current Sales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 flipH="1" flipV="1" rot="10800000">
            <a:off x="5348880" y="2575440"/>
            <a:ext cx="144360" cy="826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1240 h 826920"/>
              <a:gd name="textAreaBottom" fmla="*/ 805680 h 8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50"/>
                </a:lnTo>
                <a:cubicBezTo>
                  <a:pt x="10800" y="9750"/>
                  <a:pt x="5400" y="10650"/>
                  <a:pt x="0" y="10650"/>
                </a:cubicBezTo>
                <a:cubicBezTo>
                  <a:pt x="5400" y="10650"/>
                  <a:pt x="10800" y="11550"/>
                  <a:pt x="10800" y="124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8480" y="2717640"/>
            <a:ext cx="79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ual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620120" y="1714680"/>
            <a:ext cx="1258560" cy="1091880"/>
            <a:chOff x="7620120" y="1714680"/>
            <a:chExt cx="1258560" cy="109188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7717680" y="1864440"/>
              <a:ext cx="1161000" cy="94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620120" y="1714680"/>
              <a:ext cx="113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Ho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410120" y="1639800"/>
            <a:ext cx="1372320" cy="744120"/>
            <a:chOff x="1410120" y="1639800"/>
            <a:chExt cx="1372320" cy="74412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1625760" y="1842120"/>
              <a:ext cx="932040" cy="5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410120" y="1639800"/>
              <a:ext cx="137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Meeting Organiz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H="1" flipV="1" rot="10800000">
            <a:off x="5337720" y="1210320"/>
            <a:ext cx="144360" cy="507960"/>
          </a:xfrm>
          <a:custGeom>
            <a:avLst/>
            <a:gdLst>
              <a:gd name="textAreaLeft" fmla="*/ 92160 w 144360"/>
              <a:gd name="textAreaRight" fmla="*/ 144360 w 144360"/>
              <a:gd name="textAreaTop" fmla="*/ 12960 h 507960"/>
              <a:gd name="textAreaBottom" fmla="*/ 495000 h 50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50"/>
                </a:lnTo>
                <a:cubicBezTo>
                  <a:pt x="10800" y="9750"/>
                  <a:pt x="5400" y="10650"/>
                  <a:pt x="0" y="10650"/>
                </a:cubicBezTo>
                <a:cubicBezTo>
                  <a:pt x="5400" y="10650"/>
                  <a:pt x="10800" y="11550"/>
                  <a:pt x="10800" y="124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00640" y="1257480"/>
            <a:ext cx="104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lectronic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"/>
          <p:cNvCxnSpPr/>
          <p:nvPr/>
        </p:nvCxnSpPr>
        <p:spPr>
          <a:xfrm>
            <a:off x="6232680" y="1274760"/>
            <a:ext cx="1915200" cy="472320"/>
          </a:xfrm>
          <a:prstGeom prst="curvedConnector2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graphicFrame>
        <p:nvGraphicFramePr>
          <p:cNvPr id="222" name=""/>
          <p:cNvGraphicFramePr/>
          <p:nvPr/>
        </p:nvGraphicFramePr>
        <p:xfrm>
          <a:off x="3406680" y="2136600"/>
          <a:ext cx="912960" cy="26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06680" y="2136600"/>
                    <a:ext cx="912960" cy="2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3420360" y="186516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ales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/>
          <p:nvPr/>
        </p:nvCxnSpPr>
        <p:spPr>
          <a:xfrm>
            <a:off x="2557080" y="2073240"/>
            <a:ext cx="848520" cy="99360"/>
          </a:xfrm>
          <a:prstGeom prst="curvedConnector5">
            <a:avLst>
              <a:gd name="adj1" fmla="val 50000"/>
              <a:gd name="adj2" fmla="val 4981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/>
          <p:nvPr/>
        </p:nvCxnSpPr>
        <p:spPr>
          <a:xfrm flipV="1">
            <a:off x="4319280" y="1595160"/>
            <a:ext cx="246600" cy="673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endCxn id="212" idx="1"/>
          </p:cNvCxnSpPr>
          <p:nvPr/>
        </p:nvCxnSpPr>
        <p:spPr>
          <a:xfrm flipH="1" rot="16200000">
            <a:off x="4144680" y="2483280"/>
            <a:ext cx="607320" cy="259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/>
          <p:nvPr/>
        </p:nvCxnSpPr>
        <p:spPr>
          <a:xfrm flipV="1">
            <a:off x="4319280" y="2149200"/>
            <a:ext cx="1152720" cy="122400"/>
          </a:xfrm>
          <a:prstGeom prst="curvedConnector5">
            <a:avLst>
              <a:gd name="adj1" fmla="val 49953"/>
              <a:gd name="adj2" fmla="val 49852"/>
              <a:gd name="adj3" fmla="val 49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endCxn id="220" idx="1"/>
          </p:cNvCxnSpPr>
          <p:nvPr/>
        </p:nvCxnSpPr>
        <p:spPr>
          <a:xfrm flipV="1">
            <a:off x="2070000" y="1455480"/>
            <a:ext cx="2331360" cy="148320"/>
          </a:xfrm>
          <a:prstGeom prst="curvedConnector5">
            <a:avLst>
              <a:gd name="adj1" fmla="val 49992"/>
              <a:gd name="adj2" fmla="val 49878"/>
              <a:gd name="adj3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/>
          <p:nvPr/>
        </p:nvCxnSpPr>
        <p:spPr>
          <a:xfrm>
            <a:off x="5938560" y="2634840"/>
            <a:ext cx="2321640" cy="207000"/>
          </a:xfrm>
          <a:prstGeom prst="curvedConnector5">
            <a:avLst>
              <a:gd name="adj1" fmla="val 37484"/>
              <a:gd name="adj2" fmla="val 81358"/>
              <a:gd name="adj3" fmla="val 374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/>
          <p:nvPr/>
        </p:nvCxnSpPr>
        <p:spPr>
          <a:xfrm>
            <a:off x="2090520" y="2390400"/>
            <a:ext cx="2502360" cy="585000"/>
          </a:xfrm>
          <a:prstGeom prst="curvedConnector5">
            <a:avLst>
              <a:gd name="adj1" fmla="val 37812"/>
              <a:gd name="adj2" fmla="val 50000"/>
              <a:gd name="adj3" fmla="val 37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510160" y="2878200"/>
            <a:ext cx="695520" cy="311040"/>
          </a:xfrm>
          <a:prstGeom prst="rect">
            <a:avLst/>
          </a:prstGeom>
          <a:ln w="0">
            <a:noFill/>
          </a:ln>
        </p:spPr>
      </p:pic>
      <p:cxnSp>
        <p:nvCxnSpPr>
          <p:cNvPr id="233" name=""/>
          <p:cNvCxnSpPr/>
          <p:nvPr/>
        </p:nvCxnSpPr>
        <p:spPr>
          <a:xfrm flipV="1">
            <a:off x="6141600" y="2854080"/>
            <a:ext cx="2118600" cy="1864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5530680" y="3252960"/>
            <a:ext cx="704880" cy="315720"/>
          </a:xfrm>
          <a:prstGeom prst="rect">
            <a:avLst/>
          </a:prstGeom>
          <a:ln w="0">
            <a:noFill/>
          </a:ln>
        </p:spPr>
      </p:pic>
      <p:cxnSp>
        <p:nvCxnSpPr>
          <p:cNvPr id="235" name=""/>
          <p:cNvCxnSpPr/>
          <p:nvPr/>
        </p:nvCxnSpPr>
        <p:spPr>
          <a:xfrm flipV="1">
            <a:off x="6160680" y="2845800"/>
            <a:ext cx="2088360" cy="565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5506920" y="2471760"/>
            <a:ext cx="773280" cy="392040"/>
          </a:xfrm>
          <a:prstGeom prst="rect">
            <a:avLst/>
          </a:prstGeom>
          <a:ln w="0">
            <a:noFill/>
          </a:ln>
        </p:spPr>
      </p:pic>
      <p:cxnSp>
        <p:nvCxnSpPr>
          <p:cNvPr id="237" name=""/>
          <p:cNvCxnSpPr/>
          <p:nvPr/>
        </p:nvCxnSpPr>
        <p:spPr>
          <a:xfrm flipV="1" rot="16200000">
            <a:off x="4954680" y="-469800"/>
            <a:ext cx="462960" cy="6170040"/>
          </a:xfrm>
          <a:prstGeom prst="curvedConnector5">
            <a:avLst>
              <a:gd name="adj1" fmla="val -180466"/>
              <a:gd name="adj2" fmla="val 50000"/>
              <a:gd name="adj3" fmla="val -180466"/>
            </a:avLst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8" name=""/>
          <p:cNvCxnSpPr/>
          <p:nvPr/>
        </p:nvCxnSpPr>
        <p:spPr>
          <a:xfrm rot="10800000">
            <a:off x="3861720" y="2402640"/>
            <a:ext cx="3756600" cy="8640"/>
          </a:xfrm>
          <a:prstGeom prst="curvedConnector5">
            <a:avLst>
              <a:gd name="adj1" fmla="val 49980"/>
              <a:gd name="adj2" fmla="val 47826"/>
              <a:gd name="adj3" fmla="val 49980"/>
            </a:avLst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endCxn id="217" idx="3"/>
          </p:cNvCxnSpPr>
          <p:nvPr/>
        </p:nvCxnSpPr>
        <p:spPr>
          <a:xfrm flipV="1" rot="16200000">
            <a:off x="3066840" y="1603440"/>
            <a:ext cx="288360" cy="1305720"/>
          </a:xfrm>
          <a:prstGeom prst="curvedConnector5">
            <a:avLst>
              <a:gd name="adj1" fmla="val -79500"/>
              <a:gd name="adj2" fmla="val 33756"/>
              <a:gd name="adj3" fmla="val -79500"/>
            </a:avLst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graphicFrame>
        <p:nvGraphicFramePr>
          <p:cNvPr id="240" name=""/>
          <p:cNvGraphicFramePr/>
          <p:nvPr/>
        </p:nvGraphicFramePr>
        <p:xfrm>
          <a:off x="5607000" y="1066680"/>
          <a:ext cx="623880" cy="474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07000" y="1066680"/>
                    <a:ext cx="6238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5515560" y="2003400"/>
            <a:ext cx="807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prie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156204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priety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endCxn id="215" idx="1"/>
          </p:cNvCxnSpPr>
          <p:nvPr/>
        </p:nvCxnSpPr>
        <p:spPr>
          <a:xfrm>
            <a:off x="6781320" y="1668240"/>
            <a:ext cx="839160" cy="168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/>
          <p:nvPr/>
        </p:nvCxnSpPr>
        <p:spPr>
          <a:xfrm>
            <a:off x="6248160" y="2133720"/>
            <a:ext cx="1485000" cy="234000"/>
          </a:xfrm>
          <a:prstGeom prst="curvedConnector5">
            <a:avLst>
              <a:gd name="adj1" fmla="val 54219"/>
              <a:gd name="adj2" fmla="val 49922"/>
              <a:gd name="adj3" fmla="val 542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3124080" y="4419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46101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248520" y="560088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098520" y="557532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6299280"/>
            <a:ext cx="4114800" cy="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8120" y="5994360"/>
            <a:ext cx="4114800" cy="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6146640"/>
            <a:ext cx="4114800" cy="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"/>
          <p:cNvCxnSpPr/>
          <p:nvPr/>
        </p:nvCxnSpPr>
        <p:spPr>
          <a:xfrm flipH="1">
            <a:off x="7116480" y="4838760"/>
            <a:ext cx="2160" cy="66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3162240" y="566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3984480"/>
            <a:ext cx="91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hone/fax/ema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384200" y="3695760"/>
            <a:ext cx="1663920" cy="2886120"/>
            <a:chOff x="1384200" y="3695760"/>
            <a:chExt cx="1663920" cy="2886120"/>
          </a:xfrm>
        </p:grpSpPr>
        <p:sp>
          <p:nvSpPr>
            <p:cNvPr id="257" name=""/>
            <p:cNvSpPr/>
            <p:nvPr/>
          </p:nvSpPr>
          <p:spPr>
            <a:xfrm>
              <a:off x="1384200" y="3695760"/>
              <a:ext cx="1663920" cy="288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. Types up meeting RF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2. Research proper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. Evaluate RFP resul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1, 13 Negotiation/decis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07960" y="3705120"/>
              <a:ext cx="163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Meeting Organiz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226280" y="4000680"/>
            <a:ext cx="1765440" cy="2795400"/>
            <a:chOff x="7226280" y="4000680"/>
            <a:chExt cx="1765440" cy="2795400"/>
          </a:xfrm>
        </p:grpSpPr>
        <p:sp>
          <p:nvSpPr>
            <p:cNvPr id="260" name=""/>
            <p:cNvSpPr/>
            <p:nvPr/>
          </p:nvSpPr>
          <p:spPr>
            <a:xfrm>
              <a:off x="7226280" y="4000680"/>
              <a:ext cx="1765440" cy="2795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5. Re-key RFP information into Sales &amp; Catering syste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. Determine availabi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3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7. Initial RFP p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3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. Prepare/type RFP respon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3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3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, 14, 15. Re-price/confirm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07720" y="4002120"/>
              <a:ext cx="136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Hote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076640" y="4038480"/>
            <a:ext cx="2133720" cy="1747440"/>
            <a:chOff x="4076640" y="4038480"/>
            <a:chExt cx="2133720" cy="1747440"/>
          </a:xfrm>
        </p:grpSpPr>
        <p:sp>
          <p:nvSpPr>
            <p:cNvPr id="263" name=""/>
            <p:cNvSpPr/>
            <p:nvPr/>
          </p:nvSpPr>
          <p:spPr>
            <a:xfrm>
              <a:off x="4076640" y="4040280"/>
              <a:ext cx="2133720" cy="174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. Identify proper properties and contact them a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. Key in contact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9. Compile multiple property level inf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41880" y="4038480"/>
              <a:ext cx="171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Sales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7238880" y="1139760"/>
            <a:ext cx="1727280" cy="461880"/>
            <a:chOff x="7238880" y="1139760"/>
            <a:chExt cx="1727280" cy="461880"/>
          </a:xfrm>
        </p:grpSpPr>
        <p:sp>
          <p:nvSpPr>
            <p:cNvPr id="266" name=""/>
            <p:cNvSpPr/>
            <p:nvPr/>
          </p:nvSpPr>
          <p:spPr>
            <a:xfrm>
              <a:off x="7251480" y="125388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38880" y="1482480"/>
              <a:ext cx="3682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81600" y="1139760"/>
              <a:ext cx="138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Reserv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69000" y="1355400"/>
              <a:ext cx="138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Hotel Confirm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0" name=""/>
          <p:cNvCxnSpPr/>
          <p:nvPr/>
        </p:nvCxnSpPr>
        <p:spPr>
          <a:xfrm>
            <a:off x="5562720" y="1904760"/>
            <a:ext cx="2273760" cy="53892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71" name=""/>
          <p:cNvCxnSpPr/>
          <p:nvPr/>
        </p:nvCxnSpPr>
        <p:spPr>
          <a:xfrm flipV="1">
            <a:off x="5157360" y="2768400"/>
            <a:ext cx="2686680" cy="148320"/>
          </a:xfrm>
          <a:prstGeom prst="curvedConnector5">
            <a:avLst>
              <a:gd name="adj1" fmla="val 50000"/>
              <a:gd name="adj2" fmla="val 49878"/>
              <a:gd name="adj3" fmla="val 50000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72" name=""/>
          <p:cNvSpPr/>
          <p:nvPr/>
        </p:nvSpPr>
        <p:spPr>
          <a:xfrm flipH="1" flipV="1" rot="10800000">
            <a:off x="4357800" y="2068560"/>
            <a:ext cx="115920" cy="465120"/>
          </a:xfrm>
          <a:custGeom>
            <a:avLst/>
            <a:gdLst>
              <a:gd name="textAreaLeft" fmla="*/ 74520 w 115920"/>
              <a:gd name="textAreaRight" fmla="*/ 116640 w 11592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50"/>
                </a:lnTo>
                <a:cubicBezTo>
                  <a:pt x="10800" y="9750"/>
                  <a:pt x="5400" y="10650"/>
                  <a:pt x="0" y="10650"/>
                </a:cubicBezTo>
                <a:cubicBezTo>
                  <a:pt x="5400" y="10650"/>
                  <a:pt x="10800" y="11550"/>
                  <a:pt x="10800" y="124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66480" y="1905120"/>
            <a:ext cx="48492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anual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831080" y="1981080"/>
            <a:ext cx="1312560" cy="1384200"/>
            <a:chOff x="7831080" y="1981080"/>
            <a:chExt cx="1312560" cy="1384200"/>
          </a:xfrm>
        </p:grpSpPr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7932960" y="2171880"/>
              <a:ext cx="1210680" cy="11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831080" y="1981080"/>
              <a:ext cx="118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Ho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397160" y="1905120"/>
            <a:ext cx="995040" cy="1320480"/>
            <a:chOff x="1397160" y="1905120"/>
            <a:chExt cx="995040" cy="1320480"/>
          </a:xfrm>
        </p:grpSpPr>
        <p:graphicFrame>
          <p:nvGraphicFramePr>
            <p:cNvPr id="278" name=""/>
            <p:cNvGraphicFramePr/>
            <p:nvPr/>
          </p:nvGraphicFramePr>
          <p:xfrm>
            <a:off x="1514880" y="2387880"/>
            <a:ext cx="720720" cy="83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14880" y="2387880"/>
                      <a:ext cx="720720" cy="83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0" name=""/>
            <p:cNvSpPr/>
            <p:nvPr/>
          </p:nvSpPr>
          <p:spPr>
            <a:xfrm>
              <a:off x="1397160" y="1905120"/>
              <a:ext cx="995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Mee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Attend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438280" y="3124080"/>
            <a:ext cx="1549440" cy="1142640"/>
            <a:chOff x="2438280" y="3124080"/>
            <a:chExt cx="1549440" cy="1142640"/>
          </a:xfrm>
        </p:grpSpPr>
        <p:graphicFrame>
          <p:nvGraphicFramePr>
            <p:cNvPr id="282" name=""/>
            <p:cNvGraphicFramePr/>
            <p:nvPr/>
          </p:nvGraphicFramePr>
          <p:xfrm>
            <a:off x="2838240" y="3695760"/>
            <a:ext cx="711360" cy="570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38240" y="3695760"/>
                      <a:ext cx="711360" cy="57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2438280" y="3124080"/>
              <a:ext cx="1549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3rd Par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Housing Compan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5" name=""/>
          <p:cNvCxnSpPr/>
          <p:nvPr/>
        </p:nvCxnSpPr>
        <p:spPr>
          <a:xfrm>
            <a:off x="5409720" y="2285640"/>
            <a:ext cx="2451960" cy="330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86" name=""/>
          <p:cNvCxnSpPr/>
          <p:nvPr/>
        </p:nvCxnSpPr>
        <p:spPr>
          <a:xfrm flipV="1">
            <a:off x="2236680" y="1636200"/>
            <a:ext cx="712080" cy="1170720"/>
          </a:xfrm>
          <a:prstGeom prst="curvedConnector5">
            <a:avLst>
              <a:gd name="adj1" fmla="val 49974"/>
              <a:gd name="adj2" fmla="val 49984"/>
              <a:gd name="adj3" fmla="val 499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/>
          <p:nvPr/>
        </p:nvCxnSpPr>
        <p:spPr>
          <a:xfrm>
            <a:off x="2236680" y="2806560"/>
            <a:ext cx="602640" cy="1175760"/>
          </a:xfrm>
          <a:prstGeom prst="curvedConnector5">
            <a:avLst>
              <a:gd name="adj1" fmla="val 49850"/>
              <a:gd name="adj2" fmla="val 49984"/>
              <a:gd name="adj3" fmla="val 49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/>
          <p:nvPr/>
        </p:nvCxnSpPr>
        <p:spPr>
          <a:xfrm>
            <a:off x="3549600" y="3981240"/>
            <a:ext cx="10994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89" name=""/>
          <p:cNvGrpSpPr/>
          <p:nvPr/>
        </p:nvGrpSpPr>
        <p:grpSpPr>
          <a:xfrm>
            <a:off x="6058080" y="3479760"/>
            <a:ext cx="1079280" cy="1218960"/>
            <a:chOff x="6058080" y="3479760"/>
            <a:chExt cx="1079280" cy="1218960"/>
          </a:xfrm>
        </p:grpSpPr>
        <p:sp>
          <p:nvSpPr>
            <p:cNvPr id="290" name=""/>
            <p:cNvSpPr/>
            <p:nvPr/>
          </p:nvSpPr>
          <p:spPr>
            <a:xfrm>
              <a:off x="6210360" y="4010760"/>
              <a:ext cx="851040" cy="687960"/>
            </a:xfrm>
            <a:prstGeom prst="sun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58080" y="3479760"/>
              <a:ext cx="1079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Central Reservation Syst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2" name=""/>
          <p:cNvCxnSpPr/>
          <p:nvPr/>
        </p:nvCxnSpPr>
        <p:spPr>
          <a:xfrm>
            <a:off x="5562720" y="4063680"/>
            <a:ext cx="699120" cy="165960"/>
          </a:xfrm>
          <a:prstGeom prst="curvedConnector5">
            <a:avLst>
              <a:gd name="adj1" fmla="val 49974"/>
              <a:gd name="adj2" fmla="val 50000"/>
              <a:gd name="adj3" fmla="val 499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endCxn id="275" idx="2"/>
          </p:cNvCxnSpPr>
          <p:nvPr/>
        </p:nvCxnSpPr>
        <p:spPr>
          <a:xfrm flipV="1">
            <a:off x="7014960" y="3364920"/>
            <a:ext cx="1524600" cy="859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94" name=""/>
          <p:cNvGrpSpPr/>
          <p:nvPr/>
        </p:nvGrpSpPr>
        <p:grpSpPr>
          <a:xfrm>
            <a:off x="2587680" y="1066680"/>
            <a:ext cx="1476360" cy="914040"/>
            <a:chOff x="2587680" y="1066680"/>
            <a:chExt cx="1476360" cy="914040"/>
          </a:xfrm>
        </p:grpSpPr>
        <p:graphicFrame>
          <p:nvGraphicFramePr>
            <p:cNvPr id="295" name=""/>
            <p:cNvGraphicFramePr/>
            <p:nvPr/>
          </p:nvGraphicFramePr>
          <p:xfrm>
            <a:off x="2948040" y="1292040"/>
            <a:ext cx="746640" cy="688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948040" y="1292040"/>
                      <a:ext cx="746640" cy="68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7" name=""/>
            <p:cNvSpPr/>
            <p:nvPr/>
          </p:nvSpPr>
          <p:spPr>
            <a:xfrm>
              <a:off x="2587680" y="1066680"/>
              <a:ext cx="147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Meeting Organizer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4242960" y="3147840"/>
            <a:ext cx="907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imite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roprie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terfa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37240" y="3708360"/>
            <a:ext cx="736560" cy="60948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cap="sq"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Verdana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8"/>
          <a:stretch/>
        </p:blipFill>
        <p:spPr>
          <a:xfrm>
            <a:off x="4746600" y="2073240"/>
            <a:ext cx="587520" cy="3049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9"/>
          <a:stretch/>
        </p:blipFill>
        <p:spPr>
          <a:xfrm>
            <a:off x="4772160" y="1600200"/>
            <a:ext cx="620640" cy="3650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0"/>
          <a:stretch/>
        </p:blipFill>
        <p:spPr>
          <a:xfrm>
            <a:off x="4749840" y="2527200"/>
            <a:ext cx="563400" cy="292320"/>
          </a:xfrm>
          <a:prstGeom prst="rect">
            <a:avLst/>
          </a:prstGeom>
          <a:ln w="0">
            <a:noFill/>
          </a:ln>
        </p:spPr>
      </p:pic>
      <p:cxnSp>
        <p:nvCxnSpPr>
          <p:cNvPr id="303" name=""/>
          <p:cNvCxnSpPr/>
          <p:nvPr/>
        </p:nvCxnSpPr>
        <p:spPr>
          <a:xfrm rot="10800000">
            <a:off x="5460120" y="4342680"/>
            <a:ext cx="699480" cy="115200"/>
          </a:xfrm>
          <a:prstGeom prst="curvedConnector5">
            <a:avLst>
              <a:gd name="adj1" fmla="val 50000"/>
              <a:gd name="adj2" fmla="val 49843"/>
              <a:gd name="adj3" fmla="val 50000"/>
            </a:avLst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rot="10800000">
            <a:off x="3796560" y="4137840"/>
            <a:ext cx="1308960" cy="20556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305" name=""/>
          <p:cNvCxnSpPr/>
          <p:nvPr/>
        </p:nvCxnSpPr>
        <p:spPr>
          <a:xfrm flipV="1">
            <a:off x="2236680" y="2448000"/>
            <a:ext cx="1843920" cy="35892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6858000" y="5008680"/>
            <a:ext cx="2070000" cy="131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Data entry of Rooming List from Planner or 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Party which is labor intensi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ceives list 30 days prior to meeting thus a lack of view into meeting pick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47920" y="4648320"/>
            <a:ext cx="2209680" cy="185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eting Attend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ntact hotel directly, meeting organizer or 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par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ceives  a confirmation from either the organizer or 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party which does not match the 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Potential for 2 sets of data entry errors on attendee reser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89240" y="5084640"/>
            <a:ext cx="2311560" cy="126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eting Organ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abor intensive for their staff if they create rooming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 view into meeting pickup if reservations go direct to 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"/>
          <p:cNvCxnSpPr>
            <a:endCxn id="273" idx="2"/>
          </p:cNvCxnSpPr>
          <p:nvPr/>
        </p:nvCxnSpPr>
        <p:spPr>
          <a:xfrm flipV="1">
            <a:off x="3549600" y="2736360"/>
            <a:ext cx="658080" cy="124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2987640" y="1562040"/>
            <a:ext cx="1304640" cy="88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3880" y="-682920"/>
            <a:ext cx="7454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endix - Current Reservation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2" name=""/>
          <p:cNvCxnSpPr/>
          <p:nvPr/>
        </p:nvCxnSpPr>
        <p:spPr>
          <a:xfrm flipV="1" rot="10800000">
            <a:off x="7178040" y="3351240"/>
            <a:ext cx="1614960" cy="1003680"/>
          </a:xfrm>
          <a:prstGeom prst="curvedConnector5">
            <a:avLst>
              <a:gd name="adj1" fmla="val 8940"/>
              <a:gd name="adj2" fmla="val 49982"/>
              <a:gd name="adj3" fmla="val 8940"/>
            </a:avLst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ppendix – Growth Rate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515960" y="1494000"/>
            <a:ext cx="71452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ppendix – Rate &amp; Margin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469880" y="1509840"/>
            <a:ext cx="6759720" cy="47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endix – Simulation Key Formul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599840" y="1104480"/>
            <a:ext cx="716292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e 5-year projection of book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B * A * G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over all 3 segmen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culate 5-year projection of reven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projected #bookings) * (F * 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culate incremental revenue generated by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Revenue w/project – Revenue w/out projec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rmine the percentage increase of operating margin generated by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(M * Incremental R) / (M * R w/out projec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45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ment rule of thumb, 50% probability of acceptance if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9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5-year % increase &gt; average % increase overal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Appendix – Solver Table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755720" y="1887480"/>
            <a:ext cx="598176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-53388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Managerial Challenge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026120" indent="0"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Objectiv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aunch a product to service the small meetings market that will enhance customer satisfaction and increase profitabilit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Proposed Solut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uild a centralized system to manage all meeting inventory and sa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hance online meeting reservation experience through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eting specific Web sit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ttend a meeting” functionali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nline reporting of meeting reservations that allow meeting planners to view meeting pick-up and attendee lists 24/7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-530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ustomers’ Sales Need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511280" y="1204920"/>
            <a:ext cx="4432320" cy="149652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ales Offi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ster responses to leads sent to hot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ility to quantify value of an accou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d-to-conversion 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etitive advantages over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3137040"/>
            <a:ext cx="5943600" cy="123768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eeting Plann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ster responses to request for meeting availability and pri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gle image of inventory and pricing so call to hotel results in same price as 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38360" y="4876920"/>
            <a:ext cx="7353360" cy="1496520"/>
          </a:xfrm>
          <a:prstGeom prst="rect">
            <a:avLst/>
          </a:prstGeom>
          <a:solidFill>
            <a:srgbClr val="ffffe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otel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ility to cross-sell meeting requests to sister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number of non-convertible l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 distribution channels for distressed inventory and last minute canc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etitive advantages over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00200" y="2895480"/>
            <a:ext cx="5410080" cy="149652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eeting Attende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line “Attend a Meeting”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formation on hotel and meeting during reservation proc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rate data entry of 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eting confirmation number that hotel can cross-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1371600"/>
            <a:ext cx="6477120" cy="1275840"/>
          </a:xfrm>
          <a:prstGeom prst="rect">
            <a:avLst/>
          </a:prstGeom>
          <a:solidFill>
            <a:srgbClr val="ffffe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141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eeting Plann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line reservation processing (“Attend a Meeting” functionality)  for attend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rition manage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pability to sub-block meeting inven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1141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65440" y="4649760"/>
            <a:ext cx="7226280" cy="1717200"/>
          </a:xfrm>
          <a:prstGeom prst="rect">
            <a:avLst/>
          </a:prstGeom>
          <a:solidFill>
            <a:srgbClr val="ffffe9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otel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ter yield management against meeting re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labor of data entry on rooming l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labor in producing pickup reports and rooming lists for meeting pla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 cross-sell, up-sell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 distribution channels during slow transient or corporate market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-530280"/>
            <a:ext cx="723924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ustomers’ Reservation Need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-736560"/>
            <a:ext cx="76201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posed Solution: Sales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637240" y="961920"/>
            <a:ext cx="3506400" cy="554400"/>
            <a:chOff x="5637240" y="961920"/>
            <a:chExt cx="3506400" cy="554400"/>
          </a:xfrm>
        </p:grpSpPr>
        <p:sp>
          <p:nvSpPr>
            <p:cNvPr id="105" name=""/>
            <p:cNvSpPr/>
            <p:nvPr/>
          </p:nvSpPr>
          <p:spPr>
            <a:xfrm>
              <a:off x="5637240" y="1087200"/>
              <a:ext cx="33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955480" y="961920"/>
              <a:ext cx="318816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2-Way Communication of Reques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nd Availability/Pri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704000" y="2101680"/>
            <a:ext cx="1322280" cy="1271880"/>
            <a:chOff x="7704000" y="2101680"/>
            <a:chExt cx="1322280" cy="127188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7806600" y="2277000"/>
              <a:ext cx="1219680" cy="109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704000" y="2101680"/>
              <a:ext cx="118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Ho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331640" y="2251080"/>
            <a:ext cx="1527840" cy="923400"/>
            <a:chOff x="1331640" y="2251080"/>
            <a:chExt cx="1527840" cy="923400"/>
          </a:xfrm>
        </p:grpSpPr>
        <p:graphicFrame>
          <p:nvGraphicFramePr>
            <p:cNvPr id="111" name=""/>
            <p:cNvGraphicFramePr/>
            <p:nvPr/>
          </p:nvGraphicFramePr>
          <p:xfrm>
            <a:off x="1571400" y="2479680"/>
            <a:ext cx="1034280" cy="694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71400" y="2479680"/>
                      <a:ext cx="1034280" cy="69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1331640" y="2251080"/>
              <a:ext cx="152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eeting Organiz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168720" y="1370160"/>
            <a:ext cx="1096560" cy="640800"/>
            <a:chOff x="3168720" y="1370160"/>
            <a:chExt cx="1096560" cy="640800"/>
          </a:xfrm>
        </p:grpSpPr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3168720" y="1616760"/>
              <a:ext cx="1096560" cy="3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203280" y="1370160"/>
              <a:ext cx="1009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ales Off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105440" y="2235240"/>
            <a:ext cx="1268280" cy="896760"/>
          </a:xfrm>
          <a:prstGeom prst="cloudCallout">
            <a:avLst>
              <a:gd name="adj1" fmla="val -39300"/>
              <a:gd name="adj2" fmla="val -1041"/>
            </a:avLst>
          </a:prstGeom>
          <a:solidFill>
            <a:srgbClr val="ffffe9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5040" y="2193840"/>
            <a:ext cx="1279800" cy="107172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/>
          <p:nvPr/>
        </p:nvCxnSpPr>
        <p:spPr>
          <a:xfrm>
            <a:off x="5417640" y="2650680"/>
            <a:ext cx="492840" cy="1080"/>
          </a:xfrm>
          <a:prstGeom prst="curvedConnector5">
            <a:avLst>
              <a:gd name="adj1" fmla="val 49853"/>
              <a:gd name="adj2" fmla="val 50000"/>
              <a:gd name="adj3" fmla="val 4985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20" name=""/>
          <p:cNvGrpSpPr/>
          <p:nvPr/>
        </p:nvGrpSpPr>
        <p:grpSpPr>
          <a:xfrm>
            <a:off x="3020760" y="2879640"/>
            <a:ext cx="1032480" cy="796680"/>
            <a:chOff x="3020760" y="2879640"/>
            <a:chExt cx="1032480" cy="796680"/>
          </a:xfrm>
        </p:grpSpPr>
        <p:graphicFrame>
          <p:nvGraphicFramePr>
            <p:cNvPr id="121" name=""/>
            <p:cNvGraphicFramePr/>
            <p:nvPr/>
          </p:nvGraphicFramePr>
          <p:xfrm>
            <a:off x="3182760" y="3290400"/>
            <a:ext cx="750600" cy="385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82760" y="3290400"/>
                      <a:ext cx="750600" cy="3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" name=""/>
            <p:cNvSpPr/>
            <p:nvPr/>
          </p:nvSpPr>
          <p:spPr>
            <a:xfrm>
              <a:off x="3020760" y="2879640"/>
              <a:ext cx="103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mp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ll Cen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146400" y="3821040"/>
            <a:ext cx="990720" cy="839520"/>
            <a:chOff x="3146400" y="3821040"/>
            <a:chExt cx="990720" cy="839520"/>
          </a:xfrm>
        </p:grpSpPr>
        <p:pic>
          <p:nvPicPr>
            <p:cNvPr id="125" name="" descr=""/>
            <p:cNvPicPr/>
            <p:nvPr/>
          </p:nvPicPr>
          <p:blipFill>
            <a:blip r:embed="rId7"/>
            <a:stretch/>
          </p:blipFill>
          <p:spPr>
            <a:xfrm>
              <a:off x="3197880" y="4023360"/>
              <a:ext cx="939240" cy="63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146400" y="3821040"/>
              <a:ext cx="91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Ho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7" name=""/>
          <p:cNvCxnSpPr/>
          <p:nvPr/>
        </p:nvCxnSpPr>
        <p:spPr>
          <a:xfrm flipH="1" flipV="1" rot="5400000">
            <a:off x="7395120" y="1283040"/>
            <a:ext cx="92880" cy="1713600"/>
          </a:xfrm>
          <a:prstGeom prst="curvedConnector5">
            <a:avLst>
              <a:gd name="adj1" fmla="val 263424"/>
              <a:gd name="adj2" fmla="val 49989"/>
              <a:gd name="adj3" fmla="val 2634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/>
          <p:nvPr/>
        </p:nvCxnSpPr>
        <p:spPr>
          <a:xfrm flipV="1" rot="16200000">
            <a:off x="7446600" y="2410920"/>
            <a:ext cx="108720" cy="1832400"/>
          </a:xfrm>
          <a:prstGeom prst="curvedConnector5">
            <a:avLst>
              <a:gd name="adj1" fmla="val -138205"/>
              <a:gd name="adj2" fmla="val 49990"/>
              <a:gd name="adj3" fmla="val -1382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553080" y="1523880"/>
            <a:ext cx="20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terface to Sales &amp; Cat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40280" y="3551400"/>
            <a:ext cx="1688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Hotel Manages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nventory in SM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/>
          <p:nvPr/>
        </p:nvCxnSpPr>
        <p:spPr>
          <a:xfrm flipH="1" flipV="1" rot="5400000">
            <a:off x="2283120" y="1522800"/>
            <a:ext cx="602640" cy="11692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>
            <a:endCxn id="117" idx="0"/>
          </p:cNvCxnSpPr>
          <p:nvPr/>
        </p:nvCxnSpPr>
        <p:spPr>
          <a:xfrm flipV="1">
            <a:off x="2604960" y="2683800"/>
            <a:ext cx="1504080" cy="143640"/>
          </a:xfrm>
          <a:prstGeom prst="curvedConnector5">
            <a:avLst>
              <a:gd name="adj1" fmla="val 49820"/>
              <a:gd name="adj2" fmla="val 50000"/>
              <a:gd name="adj3" fmla="val 4982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 flipH="1" rot="16200000">
            <a:off x="2593080" y="2670480"/>
            <a:ext cx="170640" cy="11786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"/>
          <p:cNvCxnSpPr/>
          <p:nvPr/>
        </p:nvCxnSpPr>
        <p:spPr>
          <a:xfrm flipH="1" rot="16200000">
            <a:off x="2176920" y="3086640"/>
            <a:ext cx="1017000" cy="11926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5" name=""/>
          <p:cNvCxnSpPr/>
          <p:nvPr/>
        </p:nvCxnSpPr>
        <p:spPr>
          <a:xfrm flipV="1">
            <a:off x="4136760" y="3139560"/>
            <a:ext cx="603720" cy="11613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6" name=""/>
          <p:cNvCxnSpPr/>
          <p:nvPr/>
        </p:nvCxnSpPr>
        <p:spPr>
          <a:xfrm flipV="1">
            <a:off x="3922560" y="3130200"/>
            <a:ext cx="805680" cy="3168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/>
          <p:nvPr/>
        </p:nvCxnSpPr>
        <p:spPr>
          <a:xfrm>
            <a:off x="4265640" y="1806480"/>
            <a:ext cx="475200" cy="4708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1434960" y="5278320"/>
            <a:ext cx="2070360" cy="152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eeting Orga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an book a meeting through the sales office, hotel directly, online at our branded websites and eventually at our call cen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4897440"/>
            <a:ext cx="2362320" cy="175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ales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ill have same availability and pricing information that the property h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an close more leads because they can respond faster to the meeting planner on availability and pri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4648320"/>
            <a:ext cx="2438640" cy="198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t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ill sell meetings into the same system as Sales reps and planners onli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an cross-sell a sister property if they cannot accommodate the meeting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Offers additional sales channels for meet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520" y="-723960"/>
            <a:ext cx="76201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posed Solution: Reservation Proc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6197760" y="1979640"/>
            <a:ext cx="1041120" cy="110664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/>
          <p:nvPr/>
        </p:nvCxnSpPr>
        <p:spPr>
          <a:xfrm flipV="1">
            <a:off x="7238880" y="2208240"/>
            <a:ext cx="610560" cy="76680"/>
          </a:xfrm>
          <a:prstGeom prst="curvedConnector5">
            <a:avLst>
              <a:gd name="adj1" fmla="val 49970"/>
              <a:gd name="adj2" fmla="val 50000"/>
              <a:gd name="adj3" fmla="val 4997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44" name=""/>
          <p:cNvGrpSpPr/>
          <p:nvPr/>
        </p:nvGrpSpPr>
        <p:grpSpPr>
          <a:xfrm>
            <a:off x="3581280" y="3298680"/>
            <a:ext cx="1019160" cy="1349280"/>
            <a:chOff x="3581280" y="3298680"/>
            <a:chExt cx="1019160" cy="1349280"/>
          </a:xfrm>
        </p:grpSpPr>
        <p:graphicFrame>
          <p:nvGraphicFramePr>
            <p:cNvPr id="145" name=""/>
            <p:cNvGraphicFramePr/>
            <p:nvPr/>
          </p:nvGraphicFramePr>
          <p:xfrm>
            <a:off x="3732120" y="3924360"/>
            <a:ext cx="760320" cy="72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2120" y="3924360"/>
                      <a:ext cx="760320" cy="72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>
              <a:off x="3581280" y="3298680"/>
              <a:ext cx="1019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MP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ll Cen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353960" y="1838160"/>
            <a:ext cx="889560" cy="1427040"/>
            <a:chOff x="1353960" y="1838160"/>
            <a:chExt cx="889560" cy="1427040"/>
          </a:xfrm>
        </p:grpSpPr>
        <p:graphicFrame>
          <p:nvGraphicFramePr>
            <p:cNvPr id="149" name=""/>
            <p:cNvGraphicFramePr/>
            <p:nvPr/>
          </p:nvGraphicFramePr>
          <p:xfrm>
            <a:off x="1359000" y="2417040"/>
            <a:ext cx="836280" cy="848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59000" y="2417040"/>
                      <a:ext cx="836280" cy="84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1353960" y="1838160"/>
              <a:ext cx="889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ee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ttendee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lan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386880" y="2155680"/>
            <a:ext cx="1626840" cy="1055160"/>
            <a:chOff x="3386880" y="2155680"/>
            <a:chExt cx="1626840" cy="1055160"/>
          </a:xfrm>
        </p:grpSpPr>
        <p:graphicFrame>
          <p:nvGraphicFramePr>
            <p:cNvPr id="153" name=""/>
            <p:cNvGraphicFramePr/>
            <p:nvPr/>
          </p:nvGraphicFramePr>
          <p:xfrm>
            <a:off x="3654360" y="2616840"/>
            <a:ext cx="1036800" cy="594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54360" y="2616840"/>
                      <a:ext cx="1036800" cy="59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5" name=""/>
            <p:cNvSpPr/>
            <p:nvPr/>
          </p:nvSpPr>
          <p:spPr>
            <a:xfrm>
              <a:off x="3386880" y="2155680"/>
              <a:ext cx="162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3rd Pa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Housing Compan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6" name=""/>
          <p:cNvCxnSpPr/>
          <p:nvPr/>
        </p:nvCxnSpPr>
        <p:spPr>
          <a:xfrm flipH="1" rot="16200000">
            <a:off x="2244600" y="2798280"/>
            <a:ext cx="1021320" cy="1954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/>
          <p:nvPr/>
        </p:nvCxnSpPr>
        <p:spPr>
          <a:xfrm flipV="1">
            <a:off x="2195640" y="1640880"/>
            <a:ext cx="1124640" cy="294120"/>
          </a:xfrm>
          <a:prstGeom prst="curvedConnector5">
            <a:avLst>
              <a:gd name="adj1" fmla="val 49695"/>
              <a:gd name="adj2" fmla="val 50000"/>
              <a:gd name="adj3" fmla="val 49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8" name=""/>
          <p:cNvGrpSpPr/>
          <p:nvPr/>
        </p:nvGrpSpPr>
        <p:grpSpPr>
          <a:xfrm>
            <a:off x="7759800" y="1827360"/>
            <a:ext cx="1383840" cy="1291680"/>
            <a:chOff x="7759800" y="1827360"/>
            <a:chExt cx="1383840" cy="1291680"/>
          </a:xfrm>
        </p:grpSpPr>
        <p:pic>
          <p:nvPicPr>
            <p:cNvPr id="159" name="" descr=""/>
            <p:cNvPicPr/>
            <p:nvPr/>
          </p:nvPicPr>
          <p:blipFill>
            <a:blip r:embed="rId7"/>
            <a:stretch/>
          </p:blipFill>
          <p:spPr>
            <a:xfrm>
              <a:off x="7867080" y="2004480"/>
              <a:ext cx="12765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759800" y="1827360"/>
              <a:ext cx="124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Ho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1" name=""/>
          <p:cNvCxnSpPr/>
          <p:nvPr/>
        </p:nvCxnSpPr>
        <p:spPr>
          <a:xfrm flipV="1">
            <a:off x="8458200" y="3198240"/>
            <a:ext cx="356400" cy="4323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"/>
          <p:cNvCxnSpPr/>
          <p:nvPr/>
        </p:nvCxnSpPr>
        <p:spPr>
          <a:xfrm flipV="1">
            <a:off x="4492440" y="3933000"/>
            <a:ext cx="3246840" cy="35316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64" idx="0"/>
          </p:cNvCxnSpPr>
          <p:nvPr/>
        </p:nvCxnSpPr>
        <p:spPr>
          <a:xfrm>
            <a:off x="4913280" y="1641240"/>
            <a:ext cx="1208880" cy="794520"/>
          </a:xfrm>
          <a:prstGeom prst="curvedConnector5">
            <a:avLst>
              <a:gd name="adj1" fmla="val 50044"/>
              <a:gd name="adj2" fmla="val 50000"/>
              <a:gd name="adj3" fmla="val 5004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65" name=""/>
          <p:cNvGrpSpPr/>
          <p:nvPr/>
        </p:nvGrpSpPr>
        <p:grpSpPr>
          <a:xfrm>
            <a:off x="7607160" y="3340080"/>
            <a:ext cx="1079640" cy="960120"/>
            <a:chOff x="7607160" y="3340080"/>
            <a:chExt cx="1079640" cy="960120"/>
          </a:xfrm>
        </p:grpSpPr>
        <p:sp>
          <p:nvSpPr>
            <p:cNvPr id="166" name=""/>
            <p:cNvSpPr/>
            <p:nvPr/>
          </p:nvSpPr>
          <p:spPr>
            <a:xfrm>
              <a:off x="7734240" y="3511800"/>
              <a:ext cx="851040" cy="788400"/>
            </a:xfrm>
            <a:prstGeom prst="sun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07160" y="3340080"/>
              <a:ext cx="107964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499000" y="1201680"/>
            <a:ext cx="36828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776160"/>
            <a:ext cx="3429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-Way Communication of Reserv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Hotel Confi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27480" y="1095480"/>
            <a:ext cx="1587600" cy="1092240"/>
          </a:xfrm>
          <a:prstGeom prst="cloudCallout">
            <a:avLst>
              <a:gd name="adj1" fmla="val 17898"/>
              <a:gd name="adj2" fmla="val 25870"/>
            </a:avLst>
          </a:prstGeom>
          <a:solidFill>
            <a:srgbClr val="ffffe9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(Meeting Web sites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Attend A Meeting)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/>
          <p:nvPr/>
        </p:nvCxnSpPr>
        <p:spPr>
          <a:xfrm flipH="1" flipV="1" rot="5400000">
            <a:off x="2540520" y="2151360"/>
            <a:ext cx="351360" cy="1877040"/>
          </a:xfrm>
          <a:prstGeom prst="curvedConnector5">
            <a:avLst>
              <a:gd name="adj1" fmla="val -65128"/>
              <a:gd name="adj2" fmla="val 30577"/>
              <a:gd name="adj3" fmla="val -651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endCxn id="142" idx="0"/>
          </p:cNvCxnSpPr>
          <p:nvPr/>
        </p:nvCxnSpPr>
        <p:spPr>
          <a:xfrm>
            <a:off x="4690800" y="2914200"/>
            <a:ext cx="2027520" cy="172440"/>
          </a:xfrm>
          <a:prstGeom prst="curvedConnector5">
            <a:avLst>
              <a:gd name="adj1" fmla="val 37115"/>
              <a:gd name="adj2" fmla="val 116527"/>
              <a:gd name="adj3" fmla="val 3711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6934320" y="4927680"/>
            <a:ext cx="2070000" cy="147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Verdana"/>
              </a:rPr>
              <a:t>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 more re-keying rooming lists from meeting planners or 3</a:t>
            </a:r>
            <a:r>
              <a:rPr b="1" lang="en-US" sz="1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party housing compan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al-time reservation processing into PMS for better yield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4546440"/>
            <a:ext cx="1828800" cy="185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Verdana"/>
              </a:rPr>
              <a:t>Meeting Attend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Goes online to meeting websites to book meeting reser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ceives  a confirmation from that is the hotel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in information so it reduces chance of data entry err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03720" y="4851360"/>
            <a:ext cx="2120760" cy="15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Verdana"/>
              </a:rPr>
              <a:t>Meeting Organ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uilds rooming list directly into SMART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ceives hotel confirmation number for reser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an view meeting pickup if reservations go direct to 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31226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-end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520" y="-4831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Business Justification</a:t>
            </a: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143000"/>
            <a:ext cx="67816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MART provides Empire with a strong valu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position to meeting planners with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w products that make planning a meeting easier and fas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eting management tools that are unmatched by the competi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MART will leverage existing Empire marke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annel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mpire Preferred Plann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irect market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dit card marketing partnershi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sorts and convention networ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520" y="-5432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Key Consideration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59984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ject returns positive NPV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tels agree to implement solution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anag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wn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ranchis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026120" indent="0">
              <a:spcBef>
                <a:spcPts val="524"/>
              </a:spcBef>
              <a:buNone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rket sub-segment growth rat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ssoci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65610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th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6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7026120" indent="-702612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mulation vs. Optimizatio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21:10:43Z</dcterms:created>
  <dc:creator>Stern School</dc:creator>
  <dc:description/>
  <dc:language>en-US</dc:language>
  <cp:lastModifiedBy>David Juran</cp:lastModifiedBy>
  <dcterms:modified xsi:type="dcterms:W3CDTF">2002-12-16T22:06:33Z</dcterms:modified>
  <cp:revision>61</cp:revision>
  <dc:subject/>
  <dc:title>Slide 1</dc:title>
</cp:coreProperties>
</file>